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FF5-773D-420F-A29E-073F1603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244-F015-4F37-946C-39D95A97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43A0-9301-4030-A3B0-54FC4EF8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E65-EB69-47E6-A025-EF237007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58AC-ECEC-4391-900E-5CF37CE0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E5B0-5820-4D84-8109-822AA04A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5BE2-B677-4B8B-9498-749243F1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266D-5B27-49E1-99ED-9F4747A2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A0395-F112-40B6-977F-6AFC49E6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E7301-EC83-45BF-AA4E-E6C15FFB3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F9F4-9039-4815-9AED-67D76688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6FAE-FFBD-4E12-8B98-16ED2428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940E7-184D-4563-8EE9-41028E83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393A-3371-473F-B0A3-6D1D13C2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090B-75DA-40DB-AED7-91BA5D43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B3E0-5152-45DE-8750-E5ADA095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E15D-BAC8-4940-BB3A-F7C544C5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EF8-596A-4F82-8541-49A7216C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3F7-9B4F-4801-A19F-B0B1F966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535-98D0-4D21-BEF7-501CDD19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B053-D4CC-43E7-875F-82AE424A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1A66-7195-494B-86A8-8002744D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6AF-AEE5-4C2F-A804-7E7ADF6A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021-B7E7-428B-9C32-802AE528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F486-3038-45A4-91EA-60301398DB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DDDB-3C35-47DC-B231-D8997575DF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 rot="19542000"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Evangelizando</a:t>
            </a:r>
            <a:endParaRPr b="0" lang="en-US" sz="4800" spc="-1" strike="noStrike">
              <a:solidFill>
                <a:srgbClr val="000000"/>
              </a:solidFill>
              <a:latin typeface="Impact"/>
            </a:endParaRPr>
          </a:p>
        </p:txBody>
      </p:sp>
      <p:pic>
        <p:nvPicPr>
          <p:cNvPr id="83" name="Picture 5" descr="Copy of Chile Union ChM Advisory 133"/>
          <p:cNvPicPr/>
          <p:nvPr/>
        </p:nvPicPr>
        <p:blipFill>
          <a:blip r:embed="rId1"/>
          <a:stretch/>
        </p:blipFill>
        <p:spPr>
          <a:xfrm>
            <a:off x="4716360" y="0"/>
            <a:ext cx="1752840" cy="1170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hildren of the world"/>
          <p:cNvPicPr/>
          <p:nvPr/>
        </p:nvPicPr>
        <p:blipFill>
          <a:blip r:embed="rId2"/>
          <a:stretch/>
        </p:blipFill>
        <p:spPr>
          <a:xfrm rot="19542000">
            <a:off x="2000160" y="3259080"/>
            <a:ext cx="5867640" cy="696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Users\FerreyraMe\Documents\diseños PP\LOGOS_ADVENTISTAS\LOGOS_DEPTO\MINISTÉRIO_CRIANÇA\logo_Trab_esp.jpg"/>
          <p:cNvPicPr/>
          <p:nvPr/>
        </p:nvPicPr>
        <p:blipFill>
          <a:blip r:embed="rId3"/>
          <a:stretch/>
        </p:blipFill>
        <p:spPr>
          <a:xfrm>
            <a:off x="34920" y="-27000"/>
            <a:ext cx="4681440" cy="1197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8"/>
          <p:cNvSpPr/>
          <p:nvPr/>
        </p:nvSpPr>
        <p:spPr>
          <a:xfrm>
            <a:off x="7872840" y="6397560"/>
            <a:ext cx="1221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. Ferrey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inisterio Personal - D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700" spc="-1" strike="noStrike">
                <a:solidFill>
                  <a:srgbClr val="000000"/>
                </a:solidFill>
                <a:latin typeface="Arial"/>
              </a:rPr>
              <a:t>MP-EI 00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25" name="9 - Cooperación.wmv" descr=""/>
          <p:cNvPicPr/>
          <p:nvPr/>
        </p:nvPicPr>
        <p:blipFill>
          <a:blip r:embed="rId3"/>
          <a:stretch/>
        </p:blipFill>
        <p:spPr>
          <a:xfrm>
            <a:off x="1547640" y="907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30" name="10 - Da una Sonrisa.wmv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Requisi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ener un equipo de 2 a 6 personas capacitad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Buscar un loc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lanear, organizar, preparar bien el programa par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cer una buena promoción</a:t>
            </a:r>
            <a:r>
              <a:rPr b="1" lang="es-PE" sz="3200" spc="-1" strike="noStrike">
                <a:solidFill>
                  <a:srgbClr val="0d0d0d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do visualizado o ilustr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articipación plena y continu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Tomar en cuenta la regla 1 x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Variedad, novedad, agilida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étodo directo e indirecto, cambiar apropiadam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Uso de los cinco senti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22228b"/>
                </a:solidFill>
                <a:latin typeface="Arial"/>
              </a:rPr>
              <a:t>Méto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7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Póngale un nombre a la campañ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8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Mucha or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9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Escoger el tema central y enfatizar cada día ese te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0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Decidir la extensión del program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11.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400" spc="-1" strike="noStrike">
                <a:solidFill>
                  <a:srgbClr val="0d0d0d"/>
                </a:solidFill>
                <a:latin typeface="Arial"/>
              </a:rPr>
              <a:t>Haga un programa Cristo céntrico y               Niño céntric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 – La Clave Secreta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 – Tem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Honradez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cortesí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servicio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Abnegación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verdad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l Perdón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llave de la obediencia.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- Carta de Dios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Fin de sema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Este modelo lo puede usar en coordinación con la escuela e invitar a los padres de famili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Historia del libro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J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Conociendo al Autor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La Carta de Dios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ff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Modelo-Mus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scoja un canto y sobre el maneje el temario para la seman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Ejemplo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d0d0d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Trabajo en grupos…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	</a:t>
            </a:r>
            <a:r>
              <a:rPr b="1" lang="es-PE" sz="1600" spc="-1" strike="noStrike">
                <a:solidFill>
                  <a:srgbClr val="606060"/>
                </a:solidFill>
                <a:latin typeface="Arial"/>
              </a:rPr>
              <a:t>Prepare un temario basado en el canto que acaba de escucha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  <p:pic>
        <p:nvPicPr>
          <p:cNvPr id="111" name="LA SEMANA.mp3" descr=""/>
          <p:cNvPicPr/>
          <p:nvPr/>
        </p:nvPicPr>
        <p:blipFill>
          <a:blip r:embed="rId3"/>
          <a:stretch/>
        </p:blipFill>
        <p:spPr>
          <a:xfrm>
            <a:off x="4859280" y="234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gozo_culto_joe.mp3" descr=""/>
          <p:cNvPicPr/>
          <p:nvPr/>
        </p:nvPicPr>
        <p:blipFill>
          <a:blip r:embed="rId4"/>
          <a:stretch/>
        </p:blipFill>
        <p:spPr>
          <a:xfrm>
            <a:off x="4859280" y="2852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41015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95156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entro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oe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rquesta infant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Rim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Jue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Ofrend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odelito bíblic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nto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Predicand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Adivinanzas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March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0000"/>
                </a:solidFill>
                <a:latin typeface="Impact"/>
              </a:rPr>
              <a:t>Campaña Evangelística Infanti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2228b"/>
                </a:solidFill>
                <a:latin typeface="Arial"/>
              </a:rPr>
              <a:t>Nuevas iniciativ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Discipulado infantil fuera de la Igle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salu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Campaña de limpiez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- Visita a un asil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262626"/>
                </a:solidFill>
                <a:latin typeface="Arial"/>
              </a:rPr>
              <a:t>	</a:t>
            </a:r>
            <a:r>
              <a:rPr b="1" lang="es-PE" sz="2000" spc="-1" strike="noStrike">
                <a:solidFill>
                  <a:srgbClr val="606060"/>
                </a:solidFill>
                <a:latin typeface="Arial"/>
              </a:rPr>
              <a:t>La idea es que los niños participen de cualquier actividad que tenga que ver con la testificación y para que pierdan el miedo a la gente, hacerlos mas sociabl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PHFJS008"/>
          <p:cNvPicPr/>
          <p:nvPr/>
        </p:nvPicPr>
        <p:blipFill>
          <a:blip r:embed="rId1"/>
          <a:stretch/>
        </p:blipFill>
        <p:spPr>
          <a:xfrm>
            <a:off x="7534440" y="4869000"/>
            <a:ext cx="150156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children of the world"/>
          <p:cNvPicPr/>
          <p:nvPr/>
        </p:nvPicPr>
        <p:blipFill>
          <a:blip r:embed="rId2"/>
          <a:stretch/>
        </p:blipFill>
        <p:spPr>
          <a:xfrm>
            <a:off x="1619280" y="5732640"/>
            <a:ext cx="5867280" cy="696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5T13:46:03Z</dcterms:created>
  <dc:creator>Melchor Ferreyra</dc:creator>
  <dc:description/>
  <dc:language>en-US</dc:language>
  <cp:lastModifiedBy>Melchor Ferreyra</cp:lastModifiedBy>
  <dcterms:modified xsi:type="dcterms:W3CDTF">2012-06-30T02:56:07Z</dcterms:modified>
  <cp:revision>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0251033</vt:lpwstr>
  </property>
</Properties>
</file>